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69.pct" ContentType="image/x-pict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8.png" ContentType="image/png"/>
  <Override PartName="/ppt/media/image45.png" ContentType="image/png"/>
  <Override PartName="/ppt/media/image44.png" ContentType="image/png"/>
  <Override PartName="/ppt/media/image46.png" ContentType="image/png"/>
  <Override PartName="/ppt/media/image43.pct" ContentType="image/x-pict"/>
  <Override PartName="/ppt/media/image42.png" ContentType="image/png"/>
  <Override PartName="/ppt/media/image41.png" ContentType="image/png"/>
  <Override PartName="/ppt/media/image40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20.pct" ContentType="image/x-pict"/>
  <Override PartName="/ppt/media/image60.png" ContentType="image/png"/>
  <Override PartName="/ppt/media/image74.pct" ContentType="image/x-pict"/>
  <Override PartName="/ppt/media/image12.pct" ContentType="image/x-pict"/>
  <Override PartName="/ppt/media/image61.png" ContentType="image/png"/>
  <Override PartName="/ppt/media/image75.pct" ContentType="image/x-pict"/>
  <Override PartName="/ppt/media/image13.pct" ContentType="image/x-pict"/>
  <Override PartName="/ppt/media/image77.pct" ContentType="image/x-pict"/>
  <Override PartName="/ppt/media/image68.png" ContentType="image/png"/>
  <Override PartName="/ppt/media/image31.png" ContentType="image/png"/>
  <Override PartName="/ppt/media/image73.pct" ContentType="image/x-pict"/>
  <Override PartName="/ppt/media/image47.png" ContentType="image/png"/>
  <Override PartName="/ppt/media/image10.png" ContentType="image/png"/>
  <Override PartName="/ppt/media/image1.jpeg" ContentType="image/jpeg"/>
  <Override PartName="/ppt/media/image72.pct" ContentType="image/x-pict"/>
  <Override PartName="/ppt/media/image71.pct" ContentType="image/x-pict"/>
  <Override PartName="/ppt/media/image70.pct" ContentType="image/x-pict"/>
  <Override PartName="/ppt/media/image67.png" ContentType="image/png"/>
  <Override PartName="/ppt/media/image30.png" ContentType="image/png"/>
  <Override PartName="/ppt/media/image62.png" ContentType="image/png"/>
  <Override PartName="/ppt/media/image76.pct" ContentType="image/x-pict"/>
  <Override PartName="/ppt/media/image66.png" ContentType="image/png"/>
  <Override PartName="/ppt/media/image63.pct" ContentType="image/x-pict"/>
  <Override PartName="/ppt/media/image5.png" ContentType="image/png"/>
  <Override PartName="/ppt/media/image35.png" ContentType="image/png"/>
  <Override PartName="/ppt/media/image65.png" ContentType="image/png"/>
  <Override PartName="/ppt/media/image64.png" ContentType="image/png"/>
  <Override PartName="/ppt/media/image78.pct" ContentType="image/x-pict"/>
  <Override PartName="/ppt/media/image28.png" ContentType="image/png"/>
  <Override PartName="/ppt/media/image26.png" ContentType="image/png"/>
  <Override PartName="/ppt/media/image17.jpeg" ContentType="image/jpeg"/>
  <Override PartName="/ppt/media/image2.pct" ContentType="image/x-pict"/>
  <Override PartName="/ppt/media/image14.pct" ContentType="image/x-pict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7.jpeg" ContentType="image/jpeg"/>
  <Override PartName="/ppt/media/image4.png" ContentType="image/png"/>
  <Override PartName="/ppt/media/image34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1.pct" ContentType="image/x-pict"/>
  <Override PartName="/ppt/media/image11.jpeg" ContentType="image/jpeg"/>
  <Override PartName="/ppt/media/image24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5.png" ContentType="image/png"/>
  <Override PartName="/ppt/media/image32.png" ContentType="image/png"/>
  <Override PartName="/ppt/media/image37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333-C3A0-4FD1-BFC3-D583964F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60A-A6AE-418B-AF98-7B8C5E41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88C-8404-4DAF-BE79-D62DA776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AEF-80D5-4D99-ACCF-B97CD0F2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A1F-9DF0-4CDB-A9B9-7C842D54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0A5-88B8-4D76-9F67-7BE4AEC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537-1447-4D5D-B753-C1E7CB64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ACD-2C5A-4D0B-A23D-9339FEFC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8B6-EC90-4ADE-AE63-31D9C225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22B-2FA2-4B81-B647-FA51B766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8B4-5F1F-447C-862B-476CFDA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206-A241-4F81-921B-57BBC6D4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B0AD-260F-4640-B1B6-87468E161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ellsalive.com/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hyperlink" Target="http://illuminations.nctm.org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hodor.org/interactivate/activities/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hodor.org/interactivate/elementary/index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shodor.org/interactivate/activities/transform/index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colby.edu/personal/b/bknelson/exercises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uen.org/utahlink/tours/" TargetMode="External"/><Relationship Id="rId3" Type="http://schemas.openxmlformats.org/officeDocument/2006/relationships/image" Target="../media/image33.png"/><Relationship Id="rId4" Type="http://schemas.openxmlformats.org/officeDocument/2006/relationships/hyperlink" Target="http://www.areavibes.com/library/online-field-trips-for-students/" TargetMode="External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andiegozoo.org/zoo/ex_panda_station.html" TargetMode="External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yellowstone-natl-park.com/wolf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google.com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thegateway.org/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ali.apple.com/ali/resources.shtml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www.ideas.wisconsin.edu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hyperlink" Target="http://www2.dpi.state.wi.us/sig/practices/high_2.asp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hyperlink" Target="http://wisc-online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www.merlot.org/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hyperlink" Target="http://loc.gov/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hyperlink" Target="http://uwdc.library.wisc.edu/collections.html" TargetMode="External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pct"/><Relationship Id="rId3" Type="http://schemas.openxmlformats.org/officeDocument/2006/relationships/hyperlink" Target="http://www.teachingbooks.net/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hyperlink" Target="http://www.teachingbooks.net/athr_upcls.cgi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hyperlink" Target="http://www.teachingbooks.net/search.cgi" TargetMode="External"/><Relationship Id="rId3" Type="http://schemas.openxmlformats.org/officeDocument/2006/relationships/hyperlink" Target="http://www.teachingbooks.net/spec_athr.cgi?name=Ryan,%20Pam%20Mu&amp;%23241;oz" TargetMode="External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hyperlink" Target="http://www.nasa.gov/home/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pct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pct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seaworld.org/animal-info/index.htm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pct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pct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pct"/><Relationship Id="rId2" Type="http://schemas.openxmlformats.org/officeDocument/2006/relationships/image" Target="../media/image74.pct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5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8.pct"/><Relationship Id="rId2" Type="http://schemas.openxmlformats.org/officeDocument/2006/relationships/hyperlink" Target="mailto:Cramer@uwosh.edu" TargetMode="External"/><Relationship Id="rId3" Type="http://schemas.openxmlformats.org/officeDocument/2006/relationships/hyperlink" Target="http://asimov.coehs.uwosh.edu/~cramer/" TargetMode="Externa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edweek.org/sreports/tc98/ets/ets-n.ht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i.umich.edu/chico/instrument/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science.howstuffworks.com/fuel-cell2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ellisisland.org/immexp/wseix_2_3.asp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shmm.org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rning Object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Enrich Your Class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an Cramer -- UW Oshko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 Ann Carr -- UW Ma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419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010640" cy="6021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752480" y="6400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ushmm.org/museum/exhibit/online/phistori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on thread to all these instructional materials is they support student learning, are available on the Internet, and can be used in a variety of contexts depending upon the intended learning outcom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754600" y="3048120"/>
            <a:ext cx="2473560" cy="2800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685800" y="3151080"/>
            <a:ext cx="434340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kewise can be used by multiple people in multiple locations simultaneously, and can be accessed over and over without time or location constrai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101520" y="2376360"/>
            <a:ext cx="5910480" cy="366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be presented to an entire class but their true power comes when individual students access the materials to support their current learning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2589120" cy="2666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609480" y="2819520"/>
            <a:ext cx="44197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the teacher say today about mitosis? I know, I can go to these websites and review the concept myself until I understand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sal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Cellsalive.com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 great site for illustra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6095880" cy="4216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781680" y="1295280"/>
            <a:ext cx="236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osis, mitosi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biology, microbiology, immunology, microscopy, plant cells, animal cells and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s and simulations are most helpful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43600" y="3733560"/>
            <a:ext cx="2743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enoug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 ti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for you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8181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thematics, two great sources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minati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d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ext p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-38160" y="25560"/>
            <a:ext cx="9182160" cy="133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619440" cy="4660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5366520" y="640080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illuminations.nctm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91120" y="6400440"/>
            <a:ext cx="5790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shodor.org/interactivate/activiti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04920" y="0"/>
            <a:ext cx="8369280" cy="648504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83059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64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shodor.org/interactivate/elementary/index.htm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53088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0" y="228600"/>
            <a:ext cx="5016600" cy="787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228600" y="1905120"/>
            <a:ext cx="8915400" cy="4368600"/>
            <a:chOff x="228600" y="1905120"/>
            <a:chExt cx="8915400" cy="4368600"/>
          </a:xfrm>
        </p:grpSpPr>
        <p:pic>
          <p:nvPicPr>
            <p:cNvPr id="112" name="Picture 6" descr=""/>
            <p:cNvPicPr/>
            <p:nvPr/>
          </p:nvPicPr>
          <p:blipFill>
            <a:blip r:embed="rId4"/>
            <a:stretch/>
          </p:blipFill>
          <p:spPr>
            <a:xfrm>
              <a:off x="228600" y="1905120"/>
              <a:ext cx="8864640" cy="43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7"/>
            <p:cNvSpPr/>
            <p:nvPr/>
          </p:nvSpPr>
          <p:spPr>
            <a:xfrm>
              <a:off x="380880" y="6248520"/>
              <a:ext cx="8763120" cy="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Line 9"/>
          <p:cNvSpPr/>
          <p:nvPr/>
        </p:nvSpPr>
        <p:spPr>
          <a:xfrm>
            <a:off x="7924680" y="6324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8001000" cy="6746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 rot="5400000">
            <a:off x="6311880" y="3336120"/>
            <a:ext cx="533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shodor.org/interactivate/activities/transform/index.htm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language learners as well as students studying other languages can get help with how to pronounce a word or translation right on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870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2187360" y="6400800"/>
            <a:ext cx="69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colby.edu/personal/b/bknelson/exercises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learning objec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materials found on the Internet that can be used to illustrate, support, supplement or assess student lea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small in size, and can take on a variety of different shapes, formats, and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3170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6527880" cy="1371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743200" y="304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uen.org/utahlink/tours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1676520" y="469800"/>
            <a:ext cx="7226280" cy="1816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76320" y="76320"/>
            <a:ext cx="6781680" cy="459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you can travel the world from your class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808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4"/>
              </a:rPr>
              <a:t>http://www.areavibes.com/library/online-field-trips-for-student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586764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5943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sandiegozoo.org/zoo/ex_panda_sta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1523880" y="533520"/>
            <a:ext cx="617220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6781680" y="28195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4"/>
          <a:stretch/>
        </p:blipFill>
        <p:spPr>
          <a:xfrm>
            <a:off x="1219320" y="2819520"/>
            <a:ext cx="1269720" cy="126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5"/>
          <a:stretch/>
        </p:blipFill>
        <p:spPr>
          <a:xfrm>
            <a:off x="2971800" y="3835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6"/>
          <a:stretch/>
        </p:blipFill>
        <p:spPr>
          <a:xfrm>
            <a:off x="7543800" y="101592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7"/>
          <a:stretch/>
        </p:blipFill>
        <p:spPr>
          <a:xfrm>
            <a:off x="5029200" y="3835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8"/>
          <a:stretch/>
        </p:blipFill>
        <p:spPr>
          <a:xfrm>
            <a:off x="380880" y="9907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819520" y="22860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n Diego Z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33520" y="380880"/>
            <a:ext cx="5029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llowstone National P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lf news, sightings, history, packs, captive wolves, a wolf map, and audio clip of a wolf how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5842080" y="533520"/>
            <a:ext cx="2692440" cy="3975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2741400" y="640080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yellowstone-natl-park.com/wolf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3353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w, these are great resourc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find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’s lots of stuff out there and I don’t have muc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7674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an find learning objects in a myriad of locations. A Google search on “learning objects” done as this presentation was being written returned 79 million hits. A second search using “learning objects fractions” yielded 2.47 million hits while “learning objects fractions middle school” yielded 1.3 million h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267080" y="3962520"/>
            <a:ext cx="4267440" cy="177804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3"/>
          <p:cNvGrpSpPr/>
          <p:nvPr/>
        </p:nvGrpSpPr>
        <p:grpSpPr>
          <a:xfrm>
            <a:off x="380880" y="3657600"/>
            <a:ext cx="4038840" cy="2590920"/>
            <a:chOff x="380880" y="3657600"/>
            <a:chExt cx="4038840" cy="2590920"/>
          </a:xfrm>
        </p:grpSpPr>
        <p:sp>
          <p:nvSpPr>
            <p:cNvPr id="143" name="Rectangle 12"/>
            <p:cNvSpPr/>
            <p:nvPr/>
          </p:nvSpPr>
          <p:spPr>
            <a:xfrm>
              <a:off x="380880" y="3657600"/>
              <a:ext cx="3581640" cy="2590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80880" y="4038480"/>
              <a:ext cx="15242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Sand"/>
                </a:rPr>
                <a:t>1/4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2438280" y="5181480"/>
              <a:ext cx="19814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Gill Sans Ultra Bold"/>
                </a:rPr>
                <a:t>1/3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914400" y="5181480"/>
              <a:ext cx="190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Optima ExtraBlack"/>
                </a:rPr>
                <a:t>5/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11"/>
            <p:cNvGrpSpPr/>
            <p:nvPr/>
          </p:nvGrpSpPr>
          <p:grpSpPr>
            <a:xfrm>
              <a:off x="2209680" y="3809880"/>
              <a:ext cx="685800" cy="1295640"/>
              <a:chOff x="2209680" y="3809880"/>
              <a:chExt cx="685800" cy="1295640"/>
            </a:xfrm>
          </p:grpSpPr>
          <p:sp>
            <p:nvSpPr>
              <p:cNvPr id="148" name="WordArt 9"/>
              <p:cNvSpPr txBox="1"/>
              <p:nvPr/>
            </p:nvSpPr>
            <p:spPr>
              <a:xfrm>
                <a:off x="2209680" y="3809880"/>
                <a:ext cx="609480" cy="129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5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9" name="Line 10"/>
              <p:cNvSpPr/>
              <p:nvPr/>
            </p:nvSpPr>
            <p:spPr>
              <a:xfrm>
                <a:off x="2209680" y="4419720"/>
                <a:ext cx="68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Rectangle 14"/>
          <p:cNvSpPr/>
          <p:nvPr/>
        </p:nvSpPr>
        <p:spPr>
          <a:xfrm>
            <a:off x="5979600" y="640080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googl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teway to Educational Materials (GE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A Consortium effort to provide educators with quick and easy access to thousands of educational resources found on various federal, state, university, non-profit, and commercial Internet site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detailed descriptions of over 49,000 educational resou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1422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9"/>
          <p:cNvSpPr/>
          <p:nvPr/>
        </p:nvSpPr>
        <p:spPr>
          <a:xfrm>
            <a:off x="5624640" y="638496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thegatewa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71600" y="6248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ali.apple.com/ali/resources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8140680" cy="1816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762120" y="220968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w Full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Practices (44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 Ideas (10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Field Trips (72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ocumentaries (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Practices (9 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Growth Programming (14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t Profiles (2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Profiles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Showcases 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3"/>
          <a:stretch/>
        </p:blipFill>
        <p:spPr>
          <a:xfrm rot="1686600">
            <a:off x="4038120" y="3504960"/>
            <a:ext cx="53467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6776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304920" y="1447920"/>
            <a:ext cx="815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or Resource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, K, 1, 2, 3, 4, 5, 6, 7, 8, 9, 10, 11, 12, Higher Ed., Adult/Continuing 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, Math, Science, Social Studies, Information and Technology Literacy, Art and Design Education, Music Education, Environmental Education, More subjec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sconsin Model Academic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: Grade 4, Grade 8, Gra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: Grade 4, Grade 8, Gra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972320" y="64008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ideas.wisconsin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240" y="19807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sconsin's Information Network for Successful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20400" cy="1269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4813200" cy="35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5867280" y="1905120"/>
            <a:ext cx="2603520" cy="4622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228600" y="6035760"/>
            <a:ext cx="44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4"/>
              </a:rPr>
              <a:t>http://www2.dpi.state.wi.us/sig/practices/high_2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240" y="3124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sconsin Online Resourc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s developed primarily by instructors from the Wisconsin Technical College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 025 objects online with 68 more in develop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915400" cy="2793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915080" y="2819520"/>
            <a:ext cx="4228920" cy="2666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6121440" y="6400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wisc-onlin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ould be a picture of the water cycl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4908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5153760" y="6613560"/>
            <a:ext cx="398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usgcrp.gov/usgcrp/images/ocp2003/WaterCycle-optimized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520" y="3733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s to support primarily higher education students and faculty with over 10,000 materials catalogu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features are peer review, assignments, and member coll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3637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6029640" y="6384960"/>
            <a:ext cx="31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merlot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4343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fantastic materials including historic maps, photos, documents, audio and video clips, virtual tours of galleries, multilingual resources on world culture and mo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00600" cy="56228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4876920" y="5470560"/>
            <a:ext cx="41148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http://memory.loc.gov/cgi-bin/query/D?cdn:19:./temp/~ammem_eb1T: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hawp,omhbib,rbaapcbib,mal,ncpsbib,ncpm,lhbprbib,ftvbib,afcreed,aipn,cwband,flwpabib,wpapos,cmns,psbib,pin,coplandbib,cola,tccc,curt,mharendt,lhbcbbib,eaa,haybib,mesnbib,fine,cwnyhs,svybib,mmorse,afcwwgbib,mymhiwebib,uncall,mfd,afcwip,mtaft,manz,llstbib,fawbib,berl,fmuever,cdn,upboverbib,mussm,cic,afcpearl,awh,awhbib,sgp,wright,lhbtnbib,afcesnbib,hurstonbib,mreynoldsbib,spaldingbib,sgpro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3429000" cy="830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7241040" y="64008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loc.gov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838080" y="4968720"/>
            <a:ext cx="3581640" cy="10674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verfront in Milwaukee, Wisconsin, showing a bridge spanning the Milwaukee River near the Pabst 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of Wisconsin Digital 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a wealth of digitized materials from the UW System libraries you can use to support instruction. A sample of collection titles includes Africa Focus: Sights and Sounds of a Continent, Great Lakes Maritime History Project, Icelandic Online Dictionary and Readings, Illustrated Shakespeare, SouthEast Asian Images and Texts, and Wisconsin Public Land Survey Records: Original Field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73040" y="434340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901880" y="434340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3330720" y="4343400"/>
            <a:ext cx="1218960" cy="175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4"/>
          <a:stretch/>
        </p:blipFill>
        <p:spPr>
          <a:xfrm>
            <a:off x="4761000" y="4343400"/>
            <a:ext cx="1218960" cy="175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5"/>
          <a:stretch/>
        </p:blipFill>
        <p:spPr>
          <a:xfrm>
            <a:off x="6189840" y="4343400"/>
            <a:ext cx="1218960" cy="1752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6"/>
          <a:stretch/>
        </p:blipFill>
        <p:spPr>
          <a:xfrm>
            <a:off x="7620120" y="4343400"/>
            <a:ext cx="1218960" cy="1752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3486240" y="632448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7"/>
              </a:rPr>
              <a:t>http://uwdc.library.wisc.edu/collection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28600" y="0"/>
          <a:ext cx="861048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104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4"/>
          <p:cNvSpPr/>
          <p:nvPr/>
        </p:nvSpPr>
        <p:spPr>
          <a:xfrm>
            <a:off x="5638680" y="6400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www.teachingbooks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88920" y="838080"/>
            <a:ext cx="9232920" cy="5362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4848480" y="6469200"/>
            <a:ext cx="42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teachingbooks.net/athr_upcls.c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28600" y="2286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 with an author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63360" y="228600"/>
            <a:ext cx="8928360" cy="4514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3973680" y="5791320"/>
            <a:ext cx="51703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teachingbooks.net/search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www.teachingbooks.net/spec_athr.cgi?name=Ryan%2C%20Pam%20Mu%26%23241%3Bo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4"/>
          <a:stretch/>
        </p:blipFill>
        <p:spPr>
          <a:xfrm>
            <a:off x="685800" y="4800600"/>
            <a:ext cx="1104840" cy="142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5"/>
          <a:stretch/>
        </p:blipFill>
        <p:spPr>
          <a:xfrm>
            <a:off x="2057400" y="4737240"/>
            <a:ext cx="1587600" cy="19684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3809880" y="48006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 with author speaking about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 of author reading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4724280"/>
            <a:ext cx="87627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has available a wealth of instructional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15400" cy="42894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5369400" y="6369120"/>
            <a:ext cx="37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nasa.gov/hom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, does technology increase student lea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 report mixed findings but overall it has been found that “teaching and learning with technology has a small [.410], positive, significant (p&lt;.001) effect on student outcomes when compared to traditional instruction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733920" y="6095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axman, Lin, Michko, 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think of using technology in the classroom, use can be divided into two different types. Learning “from” technology and learning “with” techn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04920" y="62784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eves 1998 cited in Ringstaff and Kelley,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4160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one learns “from” techn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technology is acting as a tutor or teacher. Drill and practice software fits into this category as would a math fact game or the American Sign Language Dictionary site on the Internet. Use of these resources, learning objects, can lead to increased student learning.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Learning Return On Our Educational Technology Investment: A Review of Findings from Research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ngstaff and Kelley (2002) reported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-assisted instruction and drill-and-practice software can significantly improve students’ scores on standardized achievement te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ulik, 1994; Sivin-Kachala &amp; Bialo, 2000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ll major subject areas, preschool through higher 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oley, 1997)” (p. 5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152280" y="914400"/>
            <a:ext cx="8839440" cy="533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965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eat site for information on marine mammals, other animals, fish, birds or ec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04920" y="2793960"/>
            <a:ext cx="3301920" cy="3301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6200" y="5334120"/>
            <a:ext cx="34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seaworld.org/animal-info/info-books/california-sea-lion/inde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657600" y="3327480"/>
            <a:ext cx="5029200" cy="2196360"/>
            <a:chOff x="3657600" y="3327480"/>
            <a:chExt cx="5029200" cy="2196360"/>
          </a:xfrm>
        </p:grpSpPr>
        <p:pic>
          <p:nvPicPr>
            <p:cNvPr id="55" name="Picture 4" descr=""/>
            <p:cNvPicPr/>
            <p:nvPr/>
          </p:nvPicPr>
          <p:blipFill>
            <a:blip r:embed="rId2"/>
            <a:stretch/>
          </p:blipFill>
          <p:spPr>
            <a:xfrm>
              <a:off x="3657600" y="3327480"/>
              <a:ext cx="502920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>
              <a:off x="4862160" y="5308200"/>
              <a:ext cx="274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ttp://www.seaworld.org/animal-info/sound-library/index.ht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9"/>
          <p:cNvSpPr/>
          <p:nvPr/>
        </p:nvSpPr>
        <p:spPr>
          <a:xfrm>
            <a:off x="3088800" y="6400800"/>
            <a:ext cx="60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www.seaworld.org/animal-info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2286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a website with all sorts of reference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nglinsky (1998 in Archer, 1998), in his study of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rs who took the math section of the 1996 National Assessment of Educational Progress, reported that “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rs whose teachers used instructional computers mostly for math/learning games posted an achievement gain equal to roughly 15 percent of a grade level” (p. 3). What is happening is that student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fluency in a specific ski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5943600" y="4073400"/>
            <a:ext cx="21938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“with” technolog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nglinsky (1998 cited in Valdez, McNabb, Foertsch, Anderson, Hawkes &amp; Raack, 2000) found that “after adjusting for class size, teacher qualifications, and socioeconomics, … technology had more of an impact in middle schools than it did in elementary schools. He found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eighth grade, where computers were used for simulations and applications, students had higher test sc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where computers were used for drill and practice. The differences were the equivalent of half a grade level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occurring is “’technology can facilitate deep exploration and integration of information, high-level thinking, and profound engagement by allowing students to design, explore, experiment, access information, and model complex phenomena’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792520" cy="3351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838080" y="2587680"/>
            <a:ext cx="441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new circumstances and opportunities – not the technology on its own – can have a direct and meaningful impact on student achievement” (Goldman, Cole, and Syer, 1999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ed in NCREL 1999, p. 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man et al (cited in CEO Forum, 2001) found that students who employed simulations, microcomputer-based laboratories, and video to connect science instruction to real-world problems outperformed students who employed traditional instructional methods a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6049800" y="3200400"/>
            <a:ext cx="2345040" cy="3193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2441520" cy="30477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7"/>
          <p:cNvSpPr/>
          <p:nvPr/>
        </p:nvSpPr>
        <p:spPr>
          <a:xfrm>
            <a:off x="5638680" y="2895480"/>
            <a:ext cx="3276720" cy="3581640"/>
          </a:xfrm>
          <a:prstGeom prst="pie">
            <a:avLst/>
          </a:prstGeom>
          <a:solidFill>
            <a:srgbClr val="e35b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students use and want to use techn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se the Internet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rtual textbook and refere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rtual tutor and stud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cu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study gro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guidance counselor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locker-backpack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bo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929200" y="1219320"/>
            <a:ext cx="271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, what they find in schools i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al use of the Internet is most likely to occur outside of the school without direction of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eachers do integrate the Internet into schoolwork, the quality of the assignm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be poor and uninspi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, use of the Internet is not requir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se in homewor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6332400" y="2666880"/>
            <a:ext cx="25830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whole, “students are frustrated and increasingly dissatisfied by the digital disconnect they are experiencing at scho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not conceive of doing schoolwork without Internet access yet they are not being given many opportunities in school to take advantage of the Internet” (Levin &amp; Arafeh, 2002, p. v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2904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objects are one way to increase student learning and engag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waiting f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your next un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learning objects can mak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a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6629400" y="609480"/>
            <a:ext cx="2187720" cy="4648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533520" y="3352680"/>
            <a:ext cx="6476760" cy="258084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l free to download this presentation for use in your school. If you do, please drop us an email so we can document its usage. Tha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Cramer@uwosh.ed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asimov.coehs.uwosh.edu/~cramer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r, J. 1998. The link to higher score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ducation W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[Online]. Available </a:t>
            </a:r>
            <a:r>
              <a:rPr b="0" lang="en-US" sz="12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edweek.org/sreports/tc98/ets/ets-n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ccessed 9/29/03) now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counts.edweek.org/sreports/tc98/ets/ets-n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ccessed 8/5/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EO Forum School Technology and Readiness Report: Year 4. 200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y building blocks for student achievement in the 2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century: Assessment, alignment, accountability, access, analysi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uthor. [Online]. Availabl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ceoforum.org/downloads/report4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man, S., Cole, K., &amp; Syer, C. 1999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technology/content dilemm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Online]. Availabl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ed.gov/Technology/TechConf/1999/whitepapers/paper4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Cited in North Central Regional Educational Laboratory. 1999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itical Issue: Using Technology to improve student achiev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uthor. [Online].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crel.org/sdrs/areas/issues/methods/technlgy/te800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in, D. &amp; Arafeh, S. 2002. The Digital Disconnect: The Widening Gap Between Internet-Savvy Students and Their Schools. Accessed 1/7/05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pewinternet.org/pdfs/PIP_Schools_Internet_Report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 Central Regional Educational Laboratory 1999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itical Issue: Using Technology to improve student achievemen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uthor. [Online].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crel.org/sdrs/areas/issues/methods/technlgy/te800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eves, T. C. 1998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impact of media and technology in schools: A research report prepared for The Bertelsmann Found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athensacademy.org/instruct/media_tech/reeves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taff, C. and Kelley, L. 2002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Learning Return On Our Educational Technology Investment: A Review of Findings from Resear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WestEd RTEC. [Online]. Availabl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WestEd.org/online_pubs/learning_retur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dez, G., McNabb, M. Foertsch, Anderson, M. Hawkes M., &amp; Raack, L. 2000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mputer-based technology and learning: Evolving uses and expectation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hase III: Data_Driven Virtual Learning. (page 8 of 10) Accessed 6/3/05. [Online]. Available: (full report)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crel.org/tplan/cbtl/toc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man, H. C., Lin, M-F, Michko, G.M. 2003. A meta-analysis of the effectiveness of teaching and learning with technology on student outcomes. Learning Point Associates. Accessed 3/21/05. [Online]. Availabl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crel.org/tech/effects2/waxman.pd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nglinsky, H. 1998. </a:t>
            </a:r>
            <a:r>
              <a:rPr b="0" i="1" lang="en-US" sz="1200" spc="-1" strike="noStrike">
                <a:solidFill>
                  <a:srgbClr val="333333"/>
                </a:solidFill>
                <a:latin typeface="Times New Roman"/>
              </a:rPr>
              <a:t>Does it compute? The relationship between educational technology and student achievement in mathematics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. Princeton, NJ: Educational Testing Service. Retrieved August 5, 2005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ftp://ftp.ets.org/pub/res/technolog.pdf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429000" y="63244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si.umich.edu/chico/instrumen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899120" cy="187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banner2"/>
          <p:cNvPicPr/>
          <p:nvPr/>
        </p:nvPicPr>
        <p:blipFill>
          <a:blip r:embed="rId3"/>
          <a:stretch/>
        </p:blipFill>
        <p:spPr>
          <a:xfrm>
            <a:off x="609480" y="2082960"/>
            <a:ext cx="2374920" cy="477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_x000c_strn_376.gif                                                   000101A4_x000c_Macintosh HD                   B7C7A181:"/>
          <p:cNvPicPr/>
          <p:nvPr/>
        </p:nvPicPr>
        <p:blipFill>
          <a:blip r:embed="rId4"/>
          <a:stretch/>
        </p:blipFill>
        <p:spPr>
          <a:xfrm>
            <a:off x="3886200" y="2743200"/>
            <a:ext cx="1496880" cy="134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&#13;strn_1043.gif                                                  000101A4_x000c_Macintosh HD                   B7C7A181:"/>
          <p:cNvPicPr/>
          <p:nvPr/>
        </p:nvPicPr>
        <p:blipFill>
          <a:blip r:embed="rId5"/>
          <a:stretch/>
        </p:blipFill>
        <p:spPr>
          <a:xfrm>
            <a:off x="5562720" y="2438280"/>
            <a:ext cx="3200400" cy="12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_x000c_strn_780.gif                                                   000101A4_x000c_Macintosh HD                   B7C7A181:"/>
          <p:cNvPicPr/>
          <p:nvPr/>
        </p:nvPicPr>
        <p:blipFill>
          <a:blip r:embed="rId6"/>
          <a:stretch/>
        </p:blipFill>
        <p:spPr>
          <a:xfrm>
            <a:off x="5181480" y="4419720"/>
            <a:ext cx="22100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304920" y="1828800"/>
            <a:ext cx="8534160" cy="480060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57200" y="152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s should be short in duration, 2-15 minutes in length, and should be used to support the understanding of a concept or proc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400800" y="2133360"/>
            <a:ext cx="190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… a short video clip of how hydrogen fuel cells wor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_x0013_fuel-cell-parts.jpg                                            000101A4_x000c_Macintosh HD                   B7C7A181:"/>
          <p:cNvPicPr/>
          <p:nvPr/>
        </p:nvPicPr>
        <p:blipFill>
          <a:blip r:embed="rId1"/>
          <a:stretch/>
        </p:blipFill>
        <p:spPr>
          <a:xfrm>
            <a:off x="533520" y="2077920"/>
            <a:ext cx="5562360" cy="4170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6541920" y="6324480"/>
            <a:ext cx="21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science.howstuffworks.com/fuel-cell2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ay also include reference articles, statistical data, or first person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76520"/>
          <a:ext cx="7620120" cy="37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76201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8"/>
          <p:cNvSpPr/>
          <p:nvPr/>
        </p:nvSpPr>
        <p:spPr>
          <a:xfrm>
            <a:off x="-18360" y="6643800"/>
            <a:ext cx="31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census.gov/population/www/socdemo/migrate/cps2004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6095880" y="3200400"/>
            <a:ext cx="2722680" cy="350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4"/>
          <a:stretch/>
        </p:blipFill>
        <p:spPr>
          <a:xfrm>
            <a:off x="3657600" y="5029200"/>
            <a:ext cx="14749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173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4641840" y="1371600"/>
            <a:ext cx="450216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429000" y="6400800"/>
            <a:ext cx="601992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ellisisland.org/immexp/wseix_2_3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533520" y="2362320"/>
            <a:ext cx="3657600" cy="2414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d how did your family arrive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6920" y="617184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ushmm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3681360"/>
          </a:xfrm>
          <a:prstGeom prst="rect">
            <a:avLst/>
          </a:prstGeom>
          <a:ln w="0">
            <a:noFill/>
          </a:ln>
        </p:spPr>
      </p:pic>
      <p:sp>
        <p:nvSpPr>
          <p:cNvPr id="83" name="Line 7"/>
          <p:cNvSpPr/>
          <p:nvPr/>
        </p:nvSpPr>
        <p:spPr>
          <a:xfrm>
            <a:off x="7924680" y="6019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80880" y="4038480"/>
            <a:ext cx="419112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to the Holoca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ocaust Encyclo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o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Hi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the Holoca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Exhib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800600" y="4392720"/>
            <a:ext cx="2971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eum Exhib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ing Exhib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la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22:06:54Z</dcterms:created>
  <dc:creator>College of Education &amp; Human Services</dc:creator>
  <dc:description/>
  <dc:language>en-US</dc:language>
  <cp:lastModifiedBy>College of Ed. &amp; Human Svcs</cp:lastModifiedBy>
  <cp:lastPrinted>2006-03-02T21:55:10Z</cp:lastPrinted>
  <dcterms:modified xsi:type="dcterms:W3CDTF">2010-10-13T14:55:56Z</dcterms:modified>
  <cp:revision>94</cp:revision>
  <dc:subject/>
  <dc:title>Learning Objects  to Enrich Your Classroom</dc:title>
</cp:coreProperties>
</file>